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56A-0FEC-493E-AF43-902E8791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BC3-4913-4CBD-8DF8-8305CE35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607-244C-4AAE-A949-AA714B2E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4F7-2F8D-4195-A707-666FD085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396-41F7-4DF2-B994-6A858494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EFD-EBBD-449A-A2F9-6F5EA0C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BF1-0958-4D66-9E21-CE0EF50F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A5B-2C56-4721-8E0E-5C8A213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8D4-790C-4981-BA8C-076E6239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6E3-A42F-4C0C-9600-ED373E8C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9DC-2377-4438-AB18-25F285A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700-31BD-4E02-AF69-AC73B0D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D65-4CF4-4009-A8D4-194D8BB31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The_Burial_of_the_Count_of_Orgaz" TargetMode="External"/><Relationship Id="rId3" Type="http://schemas.openxmlformats.org/officeDocument/2006/relationships/hyperlink" Target="http://en.wikipedia.org/wiki/View_of_Toledo" TargetMode="External"/><Relationship Id="rId4" Type="http://schemas.openxmlformats.org/officeDocument/2006/relationships/hyperlink" Target="http://www.angel-art-house.com/oil_paintings_artists/e/El_Greco/Apostle_St_James_the_Greater_161014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n.wikipedia.org/wiki/Las_Meninas" TargetMode="External"/><Relationship Id="rId3" Type="http://schemas.openxmlformats.org/officeDocument/2006/relationships/hyperlink" Target="http://en.wikipedia.org/wiki/Philip_IV_of_Spain" TargetMode="External"/><Relationship Id="rId4" Type="http://schemas.openxmlformats.org/officeDocument/2006/relationships/hyperlink" Target="http://en.wikipedia.org/wiki/Snapshot_%28photography%29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intores es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35320" y="5446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atative Rose- 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5120" y="38088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vador Dalí (1904-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en.wikipedia.org/wiki/Salvador_Dal%C3%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í- Les Elep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046160"/>
            <a:ext cx="6400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6080" y="538200"/>
            <a:ext cx="6299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 Greco (1541-16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_Burial_of_the_Count_of_Org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ew_of_Tole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. J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n (1560-16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062000"/>
            <a:ext cx="67816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2286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ego Velázquez (1599-166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Las_Men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shows a large room in the Madrid palace of King </a:t>
            </a:r>
            <a:r>
              <a:rPr b="0" lang="en-US" sz="2400" spc="-1" strike="noStrike" u="sng" baseline="30000">
                <a:solidFill>
                  <a:srgbClr val="009999"/>
                </a:solidFill>
                <a:uFillTx/>
                <a:latin typeface="Arial"/>
                <a:hlinkClick r:id="rId3"/>
              </a:rPr>
              <a:t>Philip IV of Spai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, and presents several figures, most identifiable from the Spanish court, captured, according to some commentators, in a particular moment as if in a </a:t>
            </a:r>
            <a:r>
              <a:rPr b="0" lang="en-US" sz="24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snapsho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. The young Infanta Margarita is surrounded by her entourage of maids of honour, chaperone, bodyguard, two dwarfs and a dog. Just behind them, Velázquez portrays himself working at a large can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ázquez- An Old Woman Cooking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392120"/>
            <a:ext cx="647712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isco de Goy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746-1828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amily of Charles IV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1600200"/>
            <a:ext cx="541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22860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ya- The Third of May 18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eweems.com/goya/3rd_of_ma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304920"/>
            <a:ext cx="685800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Pablo Picasso (1881-197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abcgallery.com/P/picasso/picas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- 3 Mus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2160" y="1600200"/>
            <a:ext cx="48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50:17Z</dcterms:created>
  <dc:creator>jbarber</dc:creator>
  <dc:description/>
  <dc:language>en-US</dc:language>
  <cp:lastModifiedBy>jbarber</cp:lastModifiedBy>
  <dcterms:modified xsi:type="dcterms:W3CDTF">2009-06-03T13:31:36Z</dcterms:modified>
  <cp:revision>16</cp:revision>
  <dc:subject/>
  <dc:title>Los pintores españoles</dc:title>
</cp:coreProperties>
</file>